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082F-F059-4AAF-AAEB-75EE67C02099}" type="datetime">
              <a:rPr b="0" lang="en-US" sz="1200" spc="-1" strike="noStrike">
                <a:solidFill>
                  <a:srgbClr val="000000"/>
                </a:solidFill>
                <a:latin typeface="Trebuchet MS"/>
              </a:rPr>
              <a:t>07/30/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1EDC-3413-4765-89C2-445A2A0EFB9B}"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254-7D9D-43A1-B136-35AA85E93FE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AF33-ED4F-46CA-BAC9-3506C95E916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6605-21C0-49FE-B666-BE087224E69E}"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CB9B-FB99-4525-916F-FA560236968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6495-FE0B-4452-B55E-E7B00DCB1B0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B9D7-584B-45A4-8B76-6B0A835C6AB3}"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9C1A-23CD-47FE-9DD7-84B5BFEDD723}"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68857D-5438-47E6-90FF-17474B1AC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566ABB-BD6F-4040-80E6-8E527FF737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B8B91F-E61D-4074-A21E-34CA7061D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FBF81F-0EC0-484F-84D2-16397D04E1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F13129-91E4-415A-AF15-4004A62B79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0ECA1A-8A7A-4F7C-90BE-86DB46AF96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D77F30-A80F-4A3D-BB63-FA162A045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A9A7F0-C09D-4CC6-A5B1-894CF4101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D2F13B-D333-4346-8C90-0D2201CB2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AFD9F-0F7F-4EAD-B486-E602036002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B14C3-E840-4FF8-83A7-580E7F752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08200-9996-4989-B50C-0024142DF7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DC1C-05D7-496E-9F77-4E57F01DF111}"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A0DD-3E72-4C33-A3D7-DFA7B769FF3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9776-4445-469C-A08F-F02DA5AFEF3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0698-CC8A-4287-9E50-94A78140376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15BC-DEEB-4127-B28C-A3F97BDC851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A9A4-7E7F-49A4-8B58-BD9CB223CBB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7D0E-22B7-4334-BDED-41DDD9FE79B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2FE1-6968-4FF8-B4E1-511E591DD2E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91C3-53C7-4C03-83FF-8A110507704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DE9E-4261-4C91-A9EF-2B8F6E2ADAC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89B8-9A87-4932-8408-F23DA397ED3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C4E7-C8D0-458A-A776-BFC15B44C23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EC15-BBE1-4D1B-8E70-2F65A218222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2FC0-D254-4BCF-91CC-C5E875FFC98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C6FA-819B-4108-BFC1-0D4BB8B01F9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AADD-C32F-48ED-960C-6896F5B2DF8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6AAD-2F2F-46E0-B33E-472E427FFB9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91AD-C246-4E96-A0DD-E6567ABF913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7A8A-68CE-41F8-A743-0ECEF7B366A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147F-6177-4FB8-B3BF-65A289A0560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2877-AD0E-4DE5-BEDA-F4E45668A26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669F-56B0-47E7-B48D-C152481D6E5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